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73D-AD4F-4C72-9CD5-BAC140D3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CF3-1B24-4CB8-AC64-ABFCC1A4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DC3-8764-4E4F-BC90-D92F3DFB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334-A97D-4350-B3AE-C84FB987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702-BE36-4140-A0A5-6BA39EC9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210-BEFC-4830-9A0D-9A9A6C9B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F50-784F-4778-B02E-A982C893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45E-ECA7-42A2-877C-3C14937E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9CF-B5C7-4CAD-9294-F7A0E99A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D7C-FFFA-4F48-9AF0-5BF48CA0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428-F2C9-4DFE-865B-7E9FC3B4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5BF-154E-4A01-9BF9-1F6B8EDC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01FE-95E0-459B-B4FF-CB600594F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133720"/>
            <a:ext cx="69339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4676760" cy="135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2286000"/>
            <a:ext cx="838224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KidTYPEPaint"/>
              </a:rPr>
              <a:t>Dear San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KidTYPEPaint"/>
              </a:rPr>
              <a:t>I am 5 years old.  I have 3 brothers and 1 sister.  I like to play with dolls.  I drew a picture of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KidTYPEPaint"/>
              </a:rPr>
              <a:t>I would like another doll for CHristmas that look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KidTYPEPaint"/>
              </a:rPr>
              <a:t>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KidTYPEPaint"/>
              </a:rPr>
              <a:t>Lo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KidTYPEPaint"/>
              </a:rPr>
              <a:t>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KidTYPEPaint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676520" y="4876920"/>
            <a:ext cx="110484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5880" y="838080"/>
            <a:ext cx="128592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5:18:46Z</dcterms:created>
  <dc:creator>Patrick Mooney</dc:creator>
  <dc:description/>
  <dc:language>en-US</dc:language>
  <cp:lastModifiedBy>Patrick Mooney</cp:lastModifiedBy>
  <dcterms:modified xsi:type="dcterms:W3CDTF">2008-12-02T15:22:26Z</dcterms:modified>
  <cp:revision>3</cp:revision>
  <dc:subject/>
  <dc:title>Slide 1</dc:title>
</cp:coreProperties>
</file>